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A709-C2C1-4859-83F3-48E01D704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437B-203F-4FD7-852A-645E5BC54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068-CEA5-4828-947E-32836D10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3032-A015-4606-BB65-62232F22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AE98-AEBA-4337-9895-672A2A84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D45-A0AE-489A-9B31-483FAC8F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EB61-D771-4E14-BD2A-1A60E2FBE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88E0-FE9E-464E-AAE7-7ED92643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A9EA-C2D1-4FE3-BD38-1E19C13A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7E78-CABD-4E3B-9624-D3D0B8CB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BAA4-DB7D-49F7-AE7D-A7E916FE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C87F-149E-4384-B7D3-644B25D5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2BE8-6649-45A9-BEB1-5D79F6AC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CAFF-DC83-4F18-AAF5-F5AE6DCA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D3E5-B87B-4581-9935-A2D5C7CC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A254-5C61-48A0-BC50-7E09F594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F051-ED33-4E60-B6C2-2CA851FC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28BB-9FD0-445B-9981-D76D31BE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335C-F7B7-4ABA-84B8-604EA8E8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228-75BA-4F18-9699-C994D1AE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A62F-010C-49CC-A539-A9C3A61C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4560-BFD0-4026-8BBB-155D56EA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B38-D7AA-4735-8948-EAD16DFB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3D6F-1878-426C-9D5D-BA90D4F9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140-2C3D-4C9A-82A9-B22D5278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B249-95A9-4B4A-9A44-24F4B890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FAB1-AF10-431C-84CD-0CE2879C4F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76C2-2A21-45BB-BF33-E10E3F7846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600200"/>
            <a:ext cx="8076960" cy="13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рапијски поступци у офталмологији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: вежбе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0" y="46483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ф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 Сунчица Срећ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477120" y="3886200"/>
            <a:ext cx="2274840" cy="25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Arial"/>
              </a:rPr>
              <a:t>Приказ случаја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ушкарац стар 40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реда лоптом левог ока на фудб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ична и породична општа и офталмолошка анамнеза без знач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али се на бол, замагљење вида на левом 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води да му смета свет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рађен је комплетан офталмолошки прегл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Arial"/>
              </a:rPr>
              <a:t>Клинички преглед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VOD: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.0 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         VOS:0.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n.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D:14 mmHg     TOS:12 mm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ŠLOD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целини уред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ŠLOS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еремија вежњач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ровид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A: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рисутна  ексуд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RP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сутан фиб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: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кружна централна, у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L: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очиво прови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убље делове је теже саглед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800" spc="-1" strike="noStrike">
                <a:solidFill>
                  <a:srgbClr val="000000"/>
                </a:solidFill>
                <a:latin typeface="Arial"/>
              </a:rPr>
              <a:t>Трауматски ирити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599840"/>
            <a:ext cx="4724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Симптоми: бол, фотофобија,епиф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Ексудација упредњој очној ком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Обично низак ИОП, ређе повиш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Ужа зеница која се спорије ши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ад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Перилимбална инје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://www.gp-training.net/protocol/ophthalmology/redeye/iritis.jpg"/>
          <p:cNvPicPr/>
          <p:nvPr/>
        </p:nvPicPr>
        <p:blipFill>
          <a:blip r:embed="rId1"/>
          <a:stretch/>
        </p:blipFill>
        <p:spPr>
          <a:xfrm>
            <a:off x="5257800" y="1523880"/>
            <a:ext cx="361944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RS" sz="3800" spc="-1" strike="noStrike">
                <a:solidFill>
                  <a:srgbClr val="000000"/>
                </a:solidFill>
                <a:latin typeface="Arial"/>
              </a:rPr>
              <a:t>линички преглед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Мидријаза и преглед периферије мрежњаче како би се превенирала ретинална абл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Гониоскопија како би се искључила повреда коморног угла и секундарни глау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800" spc="-1" strike="noStrike">
                <a:solidFill>
                  <a:srgbClr val="000000"/>
                </a:solidFill>
                <a:latin typeface="Arial"/>
              </a:rPr>
              <a:t>Терапија 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Циклоплег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окално кортикостеридне ка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/c Atropin+ Dex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едовне контроле до санације про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Intravitreal Injection Technique: a primer"/>
          <p:cNvPicPr/>
          <p:nvPr/>
        </p:nvPicPr>
        <p:blipFill>
          <a:blip r:embed="rId1"/>
          <a:srcRect l="27830" t="28139" r="22091" b="29649"/>
          <a:stretch/>
        </p:blipFill>
        <p:spPr>
          <a:xfrm>
            <a:off x="6019920" y="2286000"/>
            <a:ext cx="2743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Arial"/>
              </a:rPr>
              <a:t>Приказ случај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ацијенткиња стара 59 г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реда десног ока у кући есенц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ична и породочна општа и офталмолошка анамнеза без знач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рана у надлежном дому здравља и упућена у КЦ ради даљег леч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Arial"/>
              </a:rPr>
              <a:t>Клинички преглед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OD:0.5 n.c.          VOS: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ŠLOD: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перемија вежњ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дефект епитела који се боји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Fl+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без ексуд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кружна централ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очиво провид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бље делове је теже саглед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ŠLOS: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целини уред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800" spc="-1" strike="noStrike">
                <a:solidFill>
                  <a:srgbClr val="000000"/>
                </a:solidFill>
                <a:latin typeface="Arial"/>
              </a:rPr>
              <a:t>Хемијске повреде о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ахтевају неодложни трет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бухватају све хемијске супстанце из свакодневног живота:киселине, базе, цемент,малтер, растварачи, детерџенти, лепила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спирање ока 0,9%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, Ringer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-ов раствор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, sol Acidi borici 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колико нису доступни, испирати в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ажљиво уклањање свих партикула у форниксу и испод капка, влажним памучним тупф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Eye Irrigation - Primary Care Medicine - Irvine, CA - Advantage Plus  Medical Center"/>
          <p:cNvPicPr/>
          <p:nvPr/>
        </p:nvPicPr>
        <p:blipFill>
          <a:blip r:embed="rId1"/>
          <a:srcRect l="35939" t="0" r="32034" b="40053"/>
          <a:stretch/>
        </p:blipFill>
        <p:spPr>
          <a:xfrm>
            <a:off x="5486400" y="1676520"/>
            <a:ext cx="31240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419720" y="1599840"/>
            <a:ext cx="3657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кални губитак епи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ије присутна значајна исхемија перилимбалног пре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ма прекида циркулације у конјунктивалним и еписклералним крвним суд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www.sightnation.com/files/30351_006.JPG"/>
          <p:cNvPicPr/>
          <p:nvPr/>
        </p:nvPicPr>
        <p:blipFill>
          <a:blip r:embed="rId1"/>
          <a:srcRect l="24041" t="10204" r="10414" b="16326"/>
          <a:stretch/>
        </p:blipFill>
        <p:spPr>
          <a:xfrm>
            <a:off x="457200" y="106668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sightnation.com/files/30351_010.JPG"/>
          <p:cNvPicPr/>
          <p:nvPr/>
        </p:nvPicPr>
        <p:blipFill>
          <a:blip r:embed="rId2"/>
          <a:srcRect l="16191" t="7999" r="10203" b="14002"/>
          <a:stretch/>
        </p:blipFill>
        <p:spPr>
          <a:xfrm>
            <a:off x="457200" y="4038480"/>
            <a:ext cx="36543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800" spc="-1" strike="noStrike">
                <a:solidFill>
                  <a:srgbClr val="000000"/>
                </a:solidFill>
                <a:latin typeface="Arial"/>
              </a:rPr>
              <a:t>Даља терапиј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Циклоплег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окално антибиотске капи и маст уве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ештачке су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Аналгетици орал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ацијента пажљиво пратити до потпуне реепителизације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мене на рожњ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000000"/>
                </a:solidFill>
                <a:latin typeface="Arial"/>
              </a:rPr>
              <a:t>Апликовање капи масти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ompounding Corner Pharmacy: Vancomycin Eye Drops | Compounding Corner  Pharmacy, Inc."/>
          <p:cNvPicPr/>
          <p:nvPr/>
        </p:nvPicPr>
        <p:blipFill>
          <a:blip r:embed="rId1"/>
          <a:stretch/>
        </p:blipFill>
        <p:spPr>
          <a:xfrm>
            <a:off x="304920" y="1828800"/>
            <a:ext cx="4114800" cy="2746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terapija 2"/>
          <p:cNvPicPr/>
          <p:nvPr/>
        </p:nvPicPr>
        <p:blipFill>
          <a:blip r:embed="rId2"/>
          <a:srcRect l="2091" t="5400" r="5593" b="14939"/>
          <a:stretch/>
        </p:blipFill>
        <p:spPr>
          <a:xfrm>
            <a:off x="5105520" y="1828800"/>
            <a:ext cx="3562200" cy="25909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609480" y="5410080"/>
            <a:ext cx="746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азмак између укапавања мора бити 5-10 минута како би се избегао wash out ефек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Терапијски поступц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ков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који се користе у лечењу очних болисти апликује се у облику: капи, масти, субконјунктивалних и интравитреалних иње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о је заштићени бројним механизмима: трептање, сузни филм, хемато-окларна бариј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ђе се примењује системска и перорална 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енетрација лек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ћина лекова у око доспева преко рожњаче, мање од 2% лека у око доспева преко вежњач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нетрација лека је сразмерна концентрацији лека који је у контакту са рожњаом и дужини конт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рмални волумен конјунктивалног сакуса је 7µ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кон укапавања лека износи 30µ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ремина већине капи износи 30-75µ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шак се дренира у лакримални систем или прелива преко ивице кап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вољно је апликовати једну кап л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07:19:42Z</dcterms:created>
  <dc:creator>Sunshine</dc:creator>
  <dc:description/>
  <dc:language>en-US</dc:language>
  <cp:lastModifiedBy>Windows User</cp:lastModifiedBy>
  <dcterms:modified xsi:type="dcterms:W3CDTF">2020-09-26T16:58:17Z</dcterms:modified>
  <cp:revision>117</cp:revision>
  <dc:subject/>
  <dc:title>Терапијски поступци у офталмологији Наследна обољења ока:  кариограм, микрогенетска дијагностика, превенција, терапија прогноза</dc:title>
</cp:coreProperties>
</file>